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D38-496C-4A6D-A47E-2371DB66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9C9-B64B-4BFC-A70F-4A81034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281-86B7-4D4B-8875-5FA85AEE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F8F-C48C-46F4-AF2E-5971795E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CDE-0850-4401-8071-2DDD804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C2F-A28A-4877-87BC-1589469E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487-DEA2-489B-942B-423DEF4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18E-4AC2-4095-A396-78E1E28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8EB-0B02-40CD-811A-388FBB8D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EE9-1A87-4FA8-8655-0BCDE64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B97-5F40-49E2-A9AF-4F271B0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C2F-285D-41E4-A874-1944C06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CBB-3F08-44F7-B836-66F0F9E0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rpicassohead.com/create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828800"/>
            <a:ext cx="593892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casso and Cubis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ablo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One of the most famous artists in the world, a co-founder of Cubism, best known for his paintings, particularly hi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lue Perio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and his creative style of arranging facial features, he also produced ceramic and bronze sculptures, drawings, etchings, collage and poetry.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881-1973. Born in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artist was as famous in his ow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idn’t appreciate women art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Known for </a:t>
            </a:r>
            <a:r>
              <a:rPr b="0" lang="en-US" sz="2800" spc="-1" strike="noStrike" u="sng">
                <a:solidFill>
                  <a:srgbClr val="bbe0e3"/>
                </a:solidFill>
                <a:uFillTx/>
                <a:latin typeface="Arial"/>
              </a:rPr>
              <a:t>Old Man with Guitar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bbe0e3"/>
                </a:solidFill>
                <a:uFillTx/>
                <a:latin typeface="Arial"/>
              </a:rPr>
              <a:t>Guer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49424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olin and Guitar”. Oil on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icasso’s “Blue Perio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8861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038480" cy="406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Old Man and Gu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icasso’s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09840" cy="4243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614320" cy="364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2563920" cy="373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943600" cy="2230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312408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xamples of Analytic Cub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y 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r. Picasso Head!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rpicassohead.com/create.htm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1216080"/>
            <a:ext cx="73152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reate your own Picasso-Style  Portra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 to Mr. Picasso Head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ign a Picasso-style portrait using the tool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nt off your creation. Remember to sign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draw your creation onto an 8.5x11 piece of paper (portrait paper ori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lour in using pencil crayon in bold colours.  Colour in a back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 a black sharpie marker to outline important lines and features of the por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4:11Z</dcterms:created>
  <dc:creator>Regina Catholic School Board</dc:creator>
  <dc:description/>
  <dc:language>en-US</dc:language>
  <cp:lastModifiedBy>Regina Catholic School Board</cp:lastModifiedBy>
  <dcterms:modified xsi:type="dcterms:W3CDTF">2008-11-12T15:13:25Z</dcterms:modified>
  <cp:revision>4</cp:revision>
  <dc:subject/>
  <dc:title>Slide 1</dc:title>
</cp:coreProperties>
</file>